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C1B-4847-4D17-B751-DE704E37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FF6-4414-4A1D-8BC0-C0537E14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12B-9642-40CB-A16D-AFD04D8D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966-6642-459B-819D-03758916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3D6-8B45-4F79-92D2-5F82072B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AF6-DF78-4057-8F70-6EE6F731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216-1063-42CC-A4D0-5B1F941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DDE-61F6-4FEE-BCA7-CEB1F63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776-40A6-4944-9E8B-2408AAEB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197-4674-4951-B01A-D7684B4D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235-B129-44E3-9486-9DC5921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C7C-9ACF-4682-A02B-732F552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E99B-9872-425D-966D-07A197D8F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Author Inform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7120" y="2625840"/>
            <a:ext cx="471960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928836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Name:</a:t>
            </a:r>
            <a:br>
              <a:rPr sz="3600"/>
            </a:br>
            <a:r>
              <a:rPr b="1" lang="en-CA" sz="5500" spc="-1" strike="noStrike">
                <a:solidFill>
                  <a:srgbClr val="ffffff"/>
                </a:solidFill>
                <a:latin typeface="Australian Sunrise"/>
              </a:rPr>
              <a:t>Sasha Korablina</a:t>
            </a:r>
            <a:br>
              <a:rPr sz="44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    </a:t>
            </a: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Age:</a:t>
            </a:r>
            <a:br>
              <a:rPr sz="3600"/>
            </a:b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      </a:t>
            </a:r>
            <a:r>
              <a:rPr b="1" lang="en-CA" sz="4000" spc="-1" strike="noStrike">
                <a:solidFill>
                  <a:srgbClr val="ffffff"/>
                </a:solidFill>
                <a:latin typeface="Australian Sunris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Hometow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</a:t>
            </a:r>
            <a:r>
              <a:rPr b="1" lang="en-CA" sz="4100" spc="-1" strike="noStrike">
                <a:solidFill>
                  <a:srgbClr val="ffffff"/>
                </a:solidFill>
                <a:latin typeface="Australian Sunrise"/>
              </a:rPr>
              <a:t>Kirovogra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</a:t>
            </a: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Nationality:</a:t>
            </a:r>
            <a:br>
              <a:rPr sz="3600"/>
            </a:b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    </a:t>
            </a:r>
            <a:r>
              <a:rPr b="1" lang="en-CA" sz="4300" spc="-1" strike="noStrike">
                <a:solidFill>
                  <a:srgbClr val="ffffff"/>
                </a:solidFill>
                <a:latin typeface="Australian Sunrise"/>
              </a:rPr>
              <a:t>Ukraini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" dur="1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828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Education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3</a:t>
            </a:r>
            <a:r>
              <a:rPr b="1" lang="en-US" sz="4500" spc="-1" strike="noStrike" baseline="30000">
                <a:solidFill>
                  <a:srgbClr val="333399"/>
                </a:solidFill>
                <a:latin typeface="Australian Sunrise"/>
              </a:rPr>
              <a:t>rd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year - University of Ottawa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 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Telfer School of Manag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   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Bachelor of Commer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    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Concentration in Accountin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Language:</a:t>
            </a:r>
            <a:br>
              <a:rPr sz="4500"/>
            </a:b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English, Ukrainian, Russian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NICE TO MEET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              </a:t>
            </a: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TOO;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ENJOY AUDI WIT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               </a:t>
            </a: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M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04:29:18Z</dcterms:created>
  <dc:creator>sexy_sasha</dc:creator>
  <dc:description/>
  <dc:language>en-US</dc:language>
  <cp:lastModifiedBy>sexy_sasha</cp:lastModifiedBy>
  <dcterms:modified xsi:type="dcterms:W3CDTF">2009-10-09T04:55:40Z</dcterms:modified>
  <cp:revision>9</cp:revision>
  <dc:subject/>
  <dc:title>Author Information:</dc:title>
</cp:coreProperties>
</file>